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81E-7B6F-4015-AE8C-A7E7F12D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AE0-2FFF-4848-ACBB-CC48EA7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E5E-12FD-469F-89BA-9D4664F5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21F-02ED-42B4-B4BE-5D5AF178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6219-C563-4FAF-B3DB-0FDFF4EE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6317-A41B-4551-A97C-318B1592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5896-11EE-4C4A-A58E-13B8DB06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AB13-2CC8-4202-9397-5EB0D9C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3F12-4437-40FC-B0BF-E653CE70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8E3-EEC1-4689-94F6-2C8F65CF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994E-B505-4981-9135-B43255DD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AF2-F71F-4A3B-BCB8-25BE4428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16A-D221-4DD0-B6B6-0A7B24B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5FAE-A010-4E7F-B9BC-3430DEF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30C8-9910-414F-8CE4-5730B0BC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4562-BE10-4AD5-9C1A-DB4C3687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7F5B-F835-430C-BEEF-B25BDC78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4D2D-15C8-43BA-9E0A-FD9B2B29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6711-8414-4103-92B3-C0F9D4CA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6E8D8-2AE6-417D-B287-DFCB1DAF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0227-7C77-4852-B5F5-5F9B94CC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4E86-CA9A-45F1-807D-1111DA09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AD0-F4F1-4940-9610-5B2EBB90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422E-3F1F-47BA-85B4-5B7EB95C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A89E-7026-44E2-B93C-77463C68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F86A-82BF-44FB-9048-5F37150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AD0D-F03C-45DD-BAFC-86A9D49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6373-D3B8-42FA-856E-0EA4CCA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BB3F-C73E-432D-9573-BD2C7C2F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13EC-7092-47A9-BFB5-6C03C66C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E0A-1778-4B58-9759-169EC277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2FF-4FC9-4878-9E78-9AEE4326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408-CEA1-4F50-B3AF-7234AD6F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553-BEC9-481C-817B-05AFFCB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FF8-C545-446B-9A69-2D6494B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B8B-69B1-4203-812C-B54FEE83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A053-6619-42AF-A983-431C8C3CE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CBB8-669E-4FBF-9FF1-DD97DE39B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227D-A4DD-4CA6-B625-2E930C8F3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ost-war America: 1945-1960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Dream starts her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burbi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62120" y="1600200"/>
            <a:ext cx="581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27440" y="1600200"/>
            <a:ext cx="348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suburbia created in post-war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war housing shor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ttown – mass production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ate Highway Act 1956 &amp; Urban Rene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360" y="182988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How do the suburbs become accessible to American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They can afford i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THE G.I. BILL (194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</a:rPr>
              <a:t>Offered veterans low interest, federally guarantee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</a:rPr>
              <a:t>Millions used these benefits to buy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</a:rPr>
              <a:t>Gave veterans $20 a week for 52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</a:rPr>
              <a:t>Encouraged veterans to get an education by paying part of their tuition</a:t>
            </a: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What was the effect of the G.I.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.I. Bill was designed to help veterans, not transform America…but [the] G.I. Bill was the best piece of legislation ever passed by the U.S. Congress, and it made modern Americ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ephen Ambrose, Histor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What was the effect of the G.I.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 Bill--Not open to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regated Col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Estat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gage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23:02:51Z</dcterms:created>
  <dc:creator>Lauren Tallevi</dc:creator>
  <dc:description/>
  <dc:language>en-US</dc:language>
  <cp:lastModifiedBy>WPS</cp:lastModifiedBy>
  <dcterms:modified xsi:type="dcterms:W3CDTF">2009-05-20T10:55:01Z</dcterms:modified>
  <cp:revision>12</cp:revision>
  <dc:subject/>
  <dc:title>Post-war America: 1945-1960</dc:title>
</cp:coreProperties>
</file>